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711-B993-40AF-9E83-0458CF73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93C-AE8B-4F5F-B7D7-AB43ADAD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6F3-1775-4B83-86D8-3D36445F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35F-CB98-4B73-B9EE-78D9CDB3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76D-8501-472E-9CF3-4AAB7BB8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E85-ECB0-44B3-849C-753D81AE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D48-4FD7-4093-B638-CE9BEC56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2F8-8297-4184-B8E8-0EAAA387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356-EAFB-4694-990D-D42B551A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003-F507-4BC0-AD0D-8C801BD8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68C-8B6D-4948-B140-CBB23F7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429-C6E4-49AF-B99A-FE73AC46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CB23-87CF-48D2-89FA-A35E3117B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am a solid shape. I have 5 faces and 5 vertices. When you trace my faces, you can make two different sha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971800"/>
            <a:ext cx="2048040" cy="1828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3048120"/>
            <a:ext cx="20574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5029200"/>
            <a:ext cx="5715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cc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o am I ?</a:t>
            </a:r>
            <a:endParaRPr b="1" lang="en-US" sz="2400" spc="1" strike="noStrike">
              <a:ln w="12600">
                <a:solidFill>
                  <a:srgbClr val="000080"/>
                </a:solidFill>
                <a:miter/>
              </a:ln>
              <a:solidFill>
                <a:srgbClr val="cc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8:15:59Z</dcterms:created>
  <dc:creator> </dc:creator>
  <dc:description/>
  <dc:language>en-US</dc:language>
  <cp:lastModifiedBy> </cp:lastModifiedBy>
  <dcterms:modified xsi:type="dcterms:W3CDTF">2006-03-14T18:16:18Z</dcterms:modified>
  <cp:revision>1</cp:revision>
  <dc:subject/>
  <dc:title>PowerPoint Presentation</dc:title>
</cp:coreProperties>
</file>